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FF1CE-ECE5-4B54-84CA-1943FF9AEA2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12DC8-F3A9-48C7-BFB3-FBFEF48C8C82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C9C-1F54-41E1-8AAD-E8ED517B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DF0-8C83-4882-AD30-AE3914C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FFE-4EC3-40EF-9FA8-E4BCFB6B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C7E-2113-498B-917F-6738DD97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E174-1804-4A10-AE92-7629F9AB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A77D-9699-4F03-8861-A9F65FF0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96FB-5E87-4E28-91F4-5C630F4E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05B2-CF60-4724-896B-A10E4E8D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097B-4990-48F7-A6EB-19D928B7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6B96-EE8A-4BE8-96CF-3DA03092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B8DD-AD81-4A12-9F59-1E190A8E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41D-FAAF-433D-A4E3-7BE45161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3566-7DC4-4831-BD09-4A532980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B1AE-965F-4B4B-8A54-F65BE72D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F656-BA32-49FD-979A-AD18EAF3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D0A3-5DCD-4D1E-85EB-17AC189C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2C0E-D6B5-47F7-8C14-7EC02E47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8C1A-520D-47AC-A017-5623E2D4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C8D9-70F3-42B9-95C7-5F6902A4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7E4F-6DFC-4F43-AFBB-8C112F90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ABE8-A653-428A-8FFE-D2E35A72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D8C1-764E-4365-B07A-09465193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13B-9F11-457F-9A08-3020BC91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10CC-1C82-4F7E-AD54-48566DF5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8A95-05B5-4017-860F-D76368AF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6B20-06FA-4514-B883-AEDB788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F535-4448-499A-9533-CC17B8F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31A4-127C-4CF4-AA07-8BB770D4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C60F-52BD-4F0A-81D2-E004B58C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A779-BCD9-4F8E-AF6C-88AE3494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3758-3AE1-4A5B-8ABF-8343C925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22CE8-1AE1-4F79-A2DA-B6FD8866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CF63-35B9-4929-8792-9CEB3916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7BC-FCCE-4967-9875-F7D3A32A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6553-CDB3-4FDC-ADA4-3FC085D9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F90B-900F-4BD7-B3D6-0FAC36DF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60C1-5E31-46E7-BAAC-82765738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A89E-5C9E-4702-8A63-0AEE1219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C4786-2002-4919-91F0-FB66406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9611-6ECC-4E9E-9C01-F66BB52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37F9-BEC6-4A77-A056-CD082786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0135-0AB1-4B4C-B0CD-CA89465B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F2D31-156E-4B93-B166-22C20885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F796-DE13-4A24-A9A9-CA90AD02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7AF-7B55-4B28-A43E-A7DDACFA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27621-B2C7-4F5C-BBFB-91DB3E5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031A0-1676-4234-A235-4645323F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E0A7-F17E-4E69-AE62-A3428A33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41FE9-3048-4F94-99E2-6B2068B3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125A-A05E-4A32-AF24-1C2374B4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16C2-5E37-45CE-91DD-16F023D3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D710-548D-45B9-A004-C334EB0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F7EF8-47CB-4A7C-8D30-A0C3ED2C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EB1B2-EF12-4B33-85F5-36618E3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85A9F-486A-4188-8097-7E4BA35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C7E-BE3A-4736-8B2B-BCA333C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3FB05-95AC-48C8-8619-462D28B8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9B207-40C2-4676-8DEC-AC4C8EF4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B48D-9FF1-4A29-ADF6-4720E409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E7C36-AF96-4ECE-B569-B05916AC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31AC7-0F32-4F4B-AC9E-73E8E3A2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0FDB5-5405-4D33-96D8-B650CB48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0961-6375-43ED-BF8B-15129C86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D607-F17B-4860-83DB-862879DC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8560-246A-482F-B462-571ADBAB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69CCD-D005-4FD5-9DCB-A89EA06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891-17C4-4BA8-8DB1-AF877E2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1DE6-9A98-46A0-82C8-4BF75042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2A4F-BF4C-46A7-85A9-54BDBA1E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DDE1E-5FB9-40A1-9572-25652CDC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CBFA8-D52A-40D8-9A9F-A1B9B882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4D4F3-258F-4268-95DC-9B80CEE9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1C1A7-BB86-4EC2-84BF-EF58C63B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199F-82F5-459F-B371-2257089D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DD53D-733D-45F8-ADF7-EB1469F1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2453-A5A4-4332-90C8-BC9A950D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5D3C5-123E-4494-BC6F-487F7752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48A-92DF-47F7-AD47-9FA9DCE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E1F1E-29A4-49AC-A544-A13CD637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9E1D-D981-4018-842D-B38E3B8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2A62-B29B-4359-AB49-8966D5D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85FB1-B4D9-4A59-A967-EEE87B3D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0FF0B-5434-4D46-910E-63521A60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C0E-8E1B-4B0A-9706-DC7DCFDB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E571E-C51E-40DD-8857-A902D326024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B2318-DA77-4954-9E45-414240FC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99D7F-CDE1-4B30-9422-D8F791FEA44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3C294-1290-4561-8A9D-010FD68F45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3F764-B5CF-4F49-A859-B875FB928ED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C0558-060C-4A62-8A66-E3BE01FD2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18216-9B77-48E4-87D2-9D7C30CB156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16768-6021-429D-AA7E-F87880BE5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E937A-372F-4DC8-B4F0-DD4A5AEFC3A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58610-3800-4854-9E05-F9016E8C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D1336-BD8F-4962-B178-6F327EBD6845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4D157-A2C1-4B3B-AA12-D4E4E01BCB7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A7F58-0356-40C3-B433-858A1F8B628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02CF6-5221-4733-9958-E5AE1703E2F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highered.mcgraw-hill.com/olc/dl/120076/micro04.swf" TargetMode="External"/><Relationship Id="rId3" Type="http://schemas.openxmlformats.org/officeDocument/2006/relationships/hyperlink" Target="http://highered.mcgraw-hill.com/olc/dl/120076/bio23.swf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youtube.com/watch?v=dIZpb93NYlw" TargetMode="External"/><Relationship Id="rId3" Type="http://schemas.openxmlformats.org/officeDocument/2006/relationships/hyperlink" Target="http://www.explorelearning.com/index.cfm?method=cResource.dspDetail&amp;ResourceID=439" TargetMode="Externa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wiley.com/college/pratt/0471393878/student/animations/dna_replication/index.html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dnai.org/timeline/index.html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ZGHkHMoyC5I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/dl/120076/bio22.swf" TargetMode="External"/><Relationship Id="rId2" Type="http://schemas.openxmlformats.org/officeDocument/2006/relationships/hyperlink" Target="http://www.sumanasinc.com/webcontent/animations/content/meselson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4236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Title 3" descr=""/>
          <p:cNvPicPr/>
          <p:nvPr/>
        </p:nvPicPr>
        <p:blipFill>
          <a:blip r:embed="rId2"/>
          <a:stretch/>
        </p:blipFill>
        <p:spPr>
          <a:xfrm>
            <a:off x="689040" y="2389320"/>
            <a:ext cx="8229600" cy="1487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3"/>
          <a:stretch/>
        </p:blipFill>
        <p:spPr>
          <a:xfrm rot="2214000">
            <a:off x="1258560" y="3200040"/>
            <a:ext cx="36320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Key Enzymes: DNA Helicase, Single Stranded Binding Proteins (SSBs), DNA Gyr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Replication Fork vs. Replication Bub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2"/>
          <a:stretch/>
        </p:blipFill>
        <p:spPr>
          <a:xfrm>
            <a:off x="546120" y="3800520"/>
            <a:ext cx="3510000" cy="2930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3"/>
          <a:stretch/>
        </p:blipFill>
        <p:spPr>
          <a:xfrm>
            <a:off x="4538520" y="3843360"/>
            <a:ext cx="425952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453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Key Enzymes: DNA Polymerase I and III, Primase, DNA Ligas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Key Terms: RNA Primers, Leading and Lagging Strands, Okazaki Frag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911160" y="3067200"/>
            <a:ext cx="7220160" cy="36846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942840" y="3078000"/>
            <a:ext cx="4797720" cy="68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5740560" y="3078000"/>
            <a:ext cx="1144440" cy="34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3874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Synthesis of Lagging Stran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1395360" y="1884240"/>
            <a:ext cx="63500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322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Key Enzymes: DNA polymerase I and III act as exonuc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681280" y="2316240"/>
            <a:ext cx="35323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 students will be shown animat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highered.mcgraw-hill.com/olc/dl/120076/micro04.swf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highered.mcgraw-hill.com/olc/dl/120076/bio23.swf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hole-Class Replication Role-Pla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entury Gothic"/>
              </a:rPr>
              <a:t>Each student acts as a nucleotide. Hands are used to form bonds. (Explained fully in summary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1) Visual: Students will make a sketch or diagram of the process of DNA replication. (K/I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2) Musical: Students will listen to the DNA replication song and write another verse for the song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youtube.com/watch?v=dIZpb93NYlw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3) Kinesthetic: Students will design an explanation for DNA replication using body/hand actions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4) Linguistic: Students will imagine being a DNA molecule and write a story explaining how they are copied. (K/I/C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5) Intrapersonal: Students will write explaining what they found to be fascinating about DNA replication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6) Interpersonal: Students will explain their understanding of DNA replication to their partners. (K/I/C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7) Logical: Students will perform the DNA replication gizmo at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www.explorelearning.com/index.cfm?method=cResource.dspDetail&amp;ResourceID=439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tudents will be given a copy of the ‘Student Exploration Sheet’ found on the website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ummative Assessment will take place at the end of the genetics unit in the form of a Unit Tes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4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759440" cy="1401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4520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find it difficult to understand the procedure and conclusions of the Meselson and Stahl experime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Explain each step in detail using illustrations and drawing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have a difficult time visualizing the concept of DNA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Show the animations multiple time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have difficulty keeping track of all the enzymes involved in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Create a word wall with all the important term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get confused about the lagging strand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Emphasize that DNA strands are antiparallel and DNA polymerase III synthesizes only in the 5’ to 3’ direction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following tutorial can be used to reiterate concepts:</a:t>
            </a:r>
            <a:br>
              <a:rPr sz="1900"/>
            </a:br>
            <a:r>
              <a:rPr b="0" lang="en-CA" sz="19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wiley.com/college/pratt/0471393878/student/animations/dna_replication/index.htm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255600"/>
            <a:ext cx="7424640" cy="939960"/>
          </a:xfrm>
          <a:prstGeom prst="rect">
            <a:avLst/>
          </a:prstGeom>
          <a:ln w="0">
            <a:noFill/>
          </a:ln>
        </p:spPr>
      </p:pic>
      <p:pic>
        <p:nvPicPr>
          <p:cNvPr id="358" name="Subtitle 2" descr=""/>
          <p:cNvPicPr/>
          <p:nvPr/>
        </p:nvPicPr>
        <p:blipFill>
          <a:blip r:embed="rId2"/>
          <a:stretch/>
        </p:blipFill>
        <p:spPr>
          <a:xfrm>
            <a:off x="49320" y="1255680"/>
            <a:ext cx="83628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Model building, role play and animations will help the entire class including ELL and special needs students to visualize the abstract structure of D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Posting a word wall with the new vocabulary related to DNA structure and replication process will help the ELLs and special need students in writing task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Extra attention and time will be given to ELLs and special needs students during classroom discussions and in computer la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Peer assistant will be encouraged in the classroom assignments by heterogeneous grouping of student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itle 1"/>
          <p:cNvSpPr/>
          <p:nvPr/>
        </p:nvSpPr>
        <p:spPr>
          <a:xfrm>
            <a:off x="333360" y="571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Title 5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45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DNA analysis can be used t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Solve crimes  (homicid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Identify human remains (missing persons, disaste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Determine relationship between family members (paternity, child abductio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Medical Research (genetic diseases, drug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Agriculture and Horticulture (genetically modified organism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Animal Husbandry (genetically modified animal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708120" y="1375920"/>
            <a:ext cx="383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We have seen detectives on TV and movies getting excited about finding hair or skin or other body cells on the crime scene. Why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xactly the same DNA is contained in every single cell in our bodies! Have you ever wondered how that is possible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lls are capable of giving rise to a new generation of cells by undergoing DNA replication and cell division.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 We are going to study how DNA is replicated so that each new cell gets the same copy in its nucleu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8" descr=""/>
          <p:cNvPicPr/>
          <p:nvPr/>
        </p:nvPicPr>
        <p:blipFill>
          <a:blip r:embed="rId2"/>
          <a:srcRect l="6002" t="0" r="15465" b="0"/>
          <a:stretch/>
        </p:blipFill>
        <p:spPr>
          <a:xfrm>
            <a:off x="4781520" y="1535040"/>
            <a:ext cx="3113280" cy="3995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3"/>
          <a:stretch/>
        </p:blipFill>
        <p:spPr>
          <a:xfrm>
            <a:off x="7894800" y="2247840"/>
            <a:ext cx="666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212760" y="133200"/>
            <a:ext cx="927000" cy="6578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142640" y="150840"/>
            <a:ext cx="7334280" cy="640224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omson Nelson Limited. (2003). </a:t>
            </a: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Biology 12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. Toronto, Ontario: Author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textbook was the source for background information and was also used for organizing the lessons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accessexcellence.org/RC/AB/WYW/wkbooks/SFTS/activity2.php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website was used to form Activity # 1 that is used in reviewing DNA composition and structure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bio22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animation was used to explain the Meselson and Stahl Experi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sumanasinc.com/webcontent/animations/content/meselson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virtual lab was used as assessment for the Meselson and Stahl Experi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micro04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bio23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ese animations were used in summarizing DNA Replicatio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youtube.com/watch?v=dIZpb93NYlw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video shows the DNA replication song that was part of assess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explorelearning.com/index.cfm?method=cResource.dspDetail&amp;ResourceID=439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gizmo was used as an assessment tool at the end of the lesson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wiley.com/college/pratt/0471393878/student/animations/dna_replication/index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tutorial was used to clear any student misconceptions and reiterate the whole process of DNA replicatio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717120" y="1447560"/>
            <a:ext cx="79693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1: Discovery of DNA: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cientists and experiments leading to the discovery of D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2: DNA Structure: 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Chemical Composition of DNA, The Double Heli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3: DNA Replicates Semi-Conservative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eselson and Stahl Experi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4: The Process of DNA Replic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parating the DNA Strands, Building the Complementary Strands, DNA Repa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5: Assessm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7443720" cy="1371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6813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 u="sng">
                <a:solidFill>
                  <a:srgbClr val="ffffff"/>
                </a:solidFill>
                <a:uFillTx/>
                <a:latin typeface="Century Gothic"/>
              </a:rPr>
              <a:t>Overall Expectation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2. investigate, through laboratory activities, the structures of cell components and their roles in processes that occur within the cell;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3. demonstrate an understanding of concepts related to molecular genetics, and how genetic modification is applied in industry and agriculture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 u="sng">
                <a:solidFill>
                  <a:srgbClr val="ffffff"/>
                </a:solidFill>
                <a:uFillTx/>
                <a:latin typeface="Century Gothic"/>
              </a:rPr>
              <a:t>Specific Expectation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2.2 analyse a simulated strand of DNA to determin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the genetic code and base pairing of DNA (e.g., determine base sequences of DNA for a protein; analyse base sequences in DNA to recognize an anomaly) [AI]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3.1 explain the current model of DNA replication, and describe the different repair mechanisms that can correct mistakes in DNA sequencing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413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00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cientists such as Hammerling, Griffith, Hershey and Chase, Chargaff, Franklin and Wilkins, Watson and Crick conducted experiments that led to better understanding of DNA and its structure. Slides with </a:t>
            </a:r>
            <a:r>
              <a:rPr b="1" lang="en-CA" sz="3000" spc="-1" strike="noStrike">
                <a:solidFill>
                  <a:srgbClr val="ffffff"/>
                </a:solidFill>
                <a:latin typeface="Century Gothic"/>
              </a:rPr>
              <a:t>M/C questions and clickers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may be used to review this information with the student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tudents complete a DNA timeline scavenger hunt 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64640" indent="-26568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dnai.org/timeline/index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66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s are shown the following vide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youtube.com/watch?v=ZGHkHMoyC5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s build DNA molecules in pairs (Activity # 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cher goes over discussion questions with the class. Any gaps in knowledge are filled and misconceptions are correct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3"/>
          <a:stretch/>
        </p:blipFill>
        <p:spPr>
          <a:xfrm>
            <a:off x="2225520" y="4083120"/>
            <a:ext cx="4924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66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is semi-conservative replicatio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 you notic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sed on your knowledge of DNA structure, how do you think this occur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8" descr=""/>
          <p:cNvPicPr/>
          <p:nvPr/>
        </p:nvPicPr>
        <p:blipFill>
          <a:blip r:embed="rId2"/>
          <a:stretch/>
        </p:blipFill>
        <p:spPr>
          <a:xfrm>
            <a:off x="1911240" y="2490840"/>
            <a:ext cx="55911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431200" cy="1457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8912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bjective: Is DNA replication conservative, semi-conservative or dispersiv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2"/>
          <a:srcRect l="0" t="0" r="0" b="30756"/>
          <a:stretch/>
        </p:blipFill>
        <p:spPr>
          <a:xfrm>
            <a:off x="1503360" y="2449440"/>
            <a:ext cx="5608800" cy="21211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6"/>
          <p:cNvSpPr/>
          <p:nvPr/>
        </p:nvSpPr>
        <p:spPr>
          <a:xfrm>
            <a:off x="2120760" y="2065320"/>
            <a:ext cx="17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erv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691080" y="2098800"/>
            <a:ext cx="193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mi-Conserva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595840" y="20779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pers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20680" y="320760"/>
            <a:ext cx="31622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9c"/>
                </a:solidFill>
                <a:latin typeface="Century Gothic"/>
              </a:rPr>
              <a:t>Meselson and Stahl Experiment (Continued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periment explained using overhe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llowing animation explaining experiment shown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highered.mcgraw-hill.com/olc/dl/120076/bio22.sw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tudents complete the virtual lab and assessed (quiz #1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sumanasinc.com/webcontent/animations/content/meselson.htm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651120" y="320400"/>
            <a:ext cx="52768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http://www.nvo.com/jin/nss-folder/scrapbookcell/Meselson1stahl.jpg"/>
          <p:cNvPicPr/>
          <p:nvPr/>
        </p:nvPicPr>
        <p:blipFill>
          <a:blip r:embed="rId3"/>
          <a:stretch/>
        </p:blipFill>
        <p:spPr>
          <a:xfrm>
            <a:off x="365112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0:12:13Z</dcterms:created>
  <dc:creator>Rebecca Lostracco</dc:creator>
  <dc:description/>
  <dc:language>en-US</dc:language>
  <cp:lastModifiedBy>Jess</cp:lastModifiedBy>
  <dcterms:modified xsi:type="dcterms:W3CDTF">2011-11-10T02:39:58Z</dcterms:modified>
  <cp:revision>135</cp:revision>
  <dc:subject/>
  <dc:title>Teaching the Concept of Protein Synthesis Rebecca Lostracco Jacqueline McCann</dc:title>
</cp:coreProperties>
</file>